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160-8F16-4009-9C7D-9CA52E74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DBE-17A0-4483-BBDD-03BB1B5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FEA-C907-42EC-A71B-6453CF37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A96-D934-4EAD-8961-6E6583C2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DC6-70AB-497F-BF3E-0042F0D9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720-12F8-4E87-A9A5-555EC15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4AD-DAD7-417C-BAB9-9ECB6DBB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4AA-CCF4-4E03-9FF3-FC52F55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15F-85DB-4DD2-9C88-3BF755FE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2AC-FEB1-45D3-8E90-3558479E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A1F-C946-4348-86C8-3D34AD65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A60-2EA1-4202-BAFE-C85863F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F7CD-7552-412E-A2C1-145103402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124080" y="4724280"/>
            <a:ext cx="3934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 - 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s16</cp:lastModifiedBy>
  <dcterms:modified xsi:type="dcterms:W3CDTF">2012-06-18T11:05:1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